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800D-D945-4F0D-9401-9CBC10FF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39EC-39EA-4F3D-860F-1F03E1AD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94B47-217A-4525-A92D-F07BC524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B6406-4C1A-4088-B204-3337F0A1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2FCCE-B652-4C36-9894-A4E63DFE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90319-CB0C-47B7-9435-2FF47A42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CC9A9-548F-42B4-A649-23CB3721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5134C-4198-4BAD-9CF2-F2275611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D2882-B2CC-41ED-BD5B-0F3B8943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D5A3A-1A09-44FB-82E2-18D3CBF6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E71EC-7A61-4DEA-807E-9DD1347C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5EAF5-3F80-4D84-AB66-654693A3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7B18-5C41-4652-9D55-93C5F58E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A22FE-6212-4A95-8C3E-F22C7BD6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4C405-B4AD-488C-B73D-44003D88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29161-2688-45CF-AE84-90C96EEB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6B60E-1973-4196-8AF5-9EE8A33B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27D7E-5077-4461-B731-ED9A0E6B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7A8C5-2BB5-465E-9B3B-C324C8D1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9F38A-B2DC-4A8B-AC76-BDAEE492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AFBBD-B595-48A6-9926-7C82698A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2E421-69F1-402A-92B5-13FAE250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5C907-9EB9-4AE9-974D-157560552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372D-03DE-492D-BBAE-051D7E69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DF4C8-DE02-47F2-9DAF-06A7C014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3F481-A398-4B62-BD5D-1F3537E0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96FBE-0D5F-44DE-929C-7174F56C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25AD9-C7FF-4187-B0C8-34F3F392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E5F19-A8D9-42BB-8FA2-7E3F408E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E606E-38B4-4D4A-964C-6D87AB00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BE8AE-A7B6-48A6-BEAC-F4FBE11E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5F14E-5315-4911-8693-F00F9F13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E0554-E372-46AF-BFB3-50CD29F6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4C37B-61B7-4F3B-A936-F192EA35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8623-1F15-4321-9006-2A34F905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0F7D4-22F5-41F3-AEB1-65359777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88C3F-E9B2-4F5F-95A5-35CE21BE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1F5AC-6C93-40D5-A8BA-8D94A93C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06C5D-ED5A-4401-9648-53B7A243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FFD05-D4F2-4A02-A762-41781E63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7C036-8390-45EA-A325-0CBBF216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76B6E-FEB1-481D-B030-07CDEFF5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DFD1F-817D-454D-9071-9F594B85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FCDBC-53F6-4307-B1B4-82E46689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D6043-6DE8-4621-94DE-D73E5952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BDE9-B84E-4813-AFC9-456F31EC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53A41-6B56-4649-8013-EAE67FC8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862F8-F123-4F6A-A741-1A9F107B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BC036-B702-4B19-8781-32B2AE37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F3C34-C8A6-411E-988A-441FBFFB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8023D-C795-4D23-B0C6-6A631CB8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5F7F24-8698-400D-93BF-7D1DC363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83AB9D-72EC-4A77-BB9D-4C132C5B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A328A-9CA2-4CE7-B111-9BFA1B36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57EEF7-5340-47CF-A87E-0B15EC8E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6DE5D7-8DFA-4914-8CE0-E4545397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838A-4968-491A-A88E-10D13165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8B8C87-0760-408A-A004-BA909AC0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9326B1-C496-480F-BDE0-B4DFEBA1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24C54C-3BF9-4E2B-A9CE-6B986A4D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F6A064-CB78-47AB-8164-DFF53FFB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031644-9EFE-4223-930B-91158456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6CA08D-3F23-4A03-A7EC-E07C25D0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8246A2-8744-4434-8FC0-1DD68F56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013C48-7934-48E4-A9ED-6993026E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5CE3E6-3E91-4568-B0A9-8B712139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E6C4F4-88D7-4804-BFD1-E541CA93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3444-9F8A-42AE-B8FC-2D5A91EF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424FC7-7639-4B38-87CD-001998B6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AB6316-6D12-4AF9-B349-4F3AF218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093425-D343-4FD3-B1B0-F1FDD6D1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A3AF62-4B6A-44A9-B496-500FB031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A007A1-E39C-4412-863B-FC46ABCA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9809B8-8C31-49E0-A7BC-609A418F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C7131F-8AF8-4551-BA2A-0B5905F5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F1BBE1-07DE-4B41-88B6-80F72EE8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E9EAC1-FBB0-4A0F-A18B-9B814890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1A2A58-C47C-495D-85E5-CA008DC3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886C-5A77-4F41-95F2-807C2CF5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7BE259-BF73-4A6F-BC2D-95A40780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025710-934B-4F13-B3CF-CD9A502D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2946A8-1B8B-4918-864B-39215275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A875B6-9CAA-4AB6-9CD5-6171BFBE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4E1893-E216-4961-9E44-AFA0E4D8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4F5E49-3ECE-4B83-AF38-319224E2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645CAB-5567-42C7-92AF-EFBE6D17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66567B-D6A3-4726-BF64-F18522BD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3A3F98-63B5-4CD2-BC4B-BE30EFAC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D319FA-789A-45BC-9E13-F4F90AF5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59D0-3ACC-435C-BCF7-A6A7B431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754B37-286C-4183-9D95-7F491F43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121D2D-C641-498C-97A7-2B3FBE9B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39A9F7-C084-4C73-8DA1-6212A1C4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F8F1E8-5F53-4386-8E94-E83C69BA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97C8A5-8791-449F-9366-B7E17DCE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267122-AF90-491D-BA8A-B243AFD5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70C8BF-7966-472D-A9B1-C07E337A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AF3C06-902E-4D6E-9C88-C485D818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3E5A51-C8B4-4787-904B-7F84FE7D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CDC83A-E7D4-4E89-A9E6-C35BA7A9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9D83-EDC6-473A-8C59-3BAAED3F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A505D8-A65D-4F57-801F-471E5996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C0465C-7CBF-42B2-9F0E-F272FA33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F4A27E-6AB7-411B-AC19-8D99165B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1FF3B9-BC4B-48EB-97E2-D9B50B69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06D962-23DA-4B27-A110-1B1F30EF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3FA09C-EB47-4CC1-89C2-8D2BB22E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09D2A9-3C5A-4084-A731-EC636121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BE8EB1-1C37-423A-83E9-464A55A8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FCB36D-F25D-411C-B487-B203F3E6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178813-D24D-47F3-8342-7F2D395A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A32A-A925-4EDA-8504-C0547F3C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9369-AEF5-4BF7-922C-AC4F777C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5E475C-C911-4713-96AB-A202B28B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10B938-4FD5-4087-9A6B-3E869A66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D4C71E-80C2-4DA4-B765-0D367192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FF7BE9-642D-43E1-B0E2-577A21FB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937E06-93B7-4923-8703-6127FB41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B19474-DA2D-4BC5-9A79-9712660B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97B6D7-70D6-41D7-83BA-A9222A92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2DDF24-74AA-42F6-B29A-FDB13EBA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644BB6-060C-414D-93A4-1C30E500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2AD1A8-F2F4-48EB-8670-0730E327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F63D-D4DE-46E5-B56E-EE2F3E00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E92585-72CE-410C-9F6B-8E85D00C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F7B0D4-1AE8-4876-A41E-B4A42609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0792B7-B1A2-4BCC-9E21-0950EA46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C51002-B227-44E0-B0E0-13BA9CA7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7B6196-F581-41F5-AF96-02118A48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7CB7AA-1F6A-4854-AA91-72E72BF4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955521-0C64-4D46-BDBA-E36A5C90E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C4530F-9512-45DC-8B1E-EC0428F2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AA9525-979D-45C0-99DA-8B4BB15B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EC6FE9-581B-4D79-BC47-4F0107A3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250C-037C-4BFB-B292-9F0D34DE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B224B7-DC2A-4F2C-848B-644A6185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A454EB-440A-44DC-9DE7-B17A0FCA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BE9764-CF0F-47A1-80D6-E262A724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88AC92-F110-4F79-B104-F6C31261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05BB4B-24D2-4B9F-87A4-03ACC380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497209-74A7-4A3D-BC04-4A59BA28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9A063C-3016-4F8A-82A6-844BB680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7DB5C5-4ADC-482E-B105-B16F9A8C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3B3985-86C0-410F-BF69-F851716B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8972A1-3BB5-4F58-862C-FDEC7DC6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5B1B-0591-4613-B48E-31D07A60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8F06E4-A450-4C3A-A4E2-1DB146D9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81DAB7-9D1C-4CD6-B3F0-181CDD18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BB395E-DD80-44A0-9B1A-8E79E9A6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7210DC-6483-47BC-A091-64CDDCDC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7CECED-6B8C-4E31-9B92-6A607A82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CCECCE-D027-4091-96C8-4B822A91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DD1349-1055-427C-9492-901FC92D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2AD0ED-E1C0-4BE2-B36A-EFA88A92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CECF21-E1D4-4ADC-9FBB-7F1C4AB0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9E5F3E-F3FE-472B-8261-C7DA70A5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D091-4B86-41A0-B45B-2ADE484D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2D2484-F688-4D2D-8362-2953C813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A9C125-196A-41BC-8052-DD81A959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BEA2AC-45A3-4E44-B96A-10DDD035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D6A9F5-9C98-4CCE-84EE-FDB0F6B7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980A19-4578-47D3-8841-FA5AB464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6460F2-5DC6-4946-9E1B-3F2492CB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AEF904-A3CE-4158-9F6F-6D0041A0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AD3835-4C4C-45B4-9B9E-E835A7E9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471592-5BAF-46C1-B09B-D9A0FEF8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679B2F-156B-4367-AC3B-BD968C90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ADBAC-4102-48F4-BE47-F02A8093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457444-EDC7-4830-A351-4E36D270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963564-CF42-42B5-81B9-6FAEA37C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AE4BEF-C66E-43A2-AD8C-A7E25A5A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CB117-FE39-477E-9BFD-83390DA0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A13C6-32CB-4E70-BAD8-30B2B5E8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030D8-DE4D-4A9C-A6BD-2A484D39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9F687-B7D6-48D3-BB07-C1665A2C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39B5-81AA-4234-9BA3-0ADFC3DA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2AFC5-8FEC-404D-B93E-1A8CCC9A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77F58-FDAB-4C41-9BDE-1EE7538C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3CA4E-1F63-412F-8420-E7FFD1E7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D5F55-887B-4BC4-B6CB-9A173E16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85890-D7B4-49B6-B0C1-B8C7E24D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B716F-264F-4957-95A7-D7834BEC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61EE0-9534-45C7-B80F-6D144A5E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C3F6A-7253-4383-AABF-A6CC35A6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4A1A6-A3B4-4441-B3BA-68304A94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10DE4-0E48-496C-A9AA-E2D8D7FC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B61B-1FC1-44D5-A487-6E72E302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E7030-C6D9-48BD-A9BE-FCD04FD2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9A081-6663-4D64-A8EF-24278E2F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D04F7-CF5D-4DB3-B1A2-6921390E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52456-070E-4960-B255-B0C7213A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C188A-98C7-43E6-A553-3B415D8C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019B7-FB04-4170-BC86-698FAD37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FA3AB-562F-4988-BD5B-C1A78A55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51C38-B544-44BD-9734-FE679E99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AE10F-E6F1-4159-A9C3-1BB1CFCC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7B19B-DDC6-4E1A-A0F8-3FBBBB26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1C62-E094-49EB-98B2-AA64DD46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C0BAA-2BB0-4102-812D-D45A8929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16E16-AB35-4112-86A1-EFA08568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BF517-78BB-44C9-8029-1591B4ED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AC252-0E3A-4ACD-94FD-1E2DDB54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17EB0-CE57-46E6-9A90-90107BDC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C3CD2-CFA0-43F7-A257-7B98A825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8D2C6-F0FC-4295-A86E-87B31409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831E4-10EF-4FDC-BAAB-4BAF0CB6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8E03F-272C-46FB-9FD2-23FA55CE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31FA4-B0B8-452C-9C60-AD51A4A4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6E1C-4FB4-4BDD-A267-FB078E8D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90C95-1E21-4280-8EBB-D98332A8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78F3C-05EB-44E5-8E91-EB79C85C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D3956-10D9-4CE4-AC50-A90EFB93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34D3E-B0B1-4D59-803B-E40E0E0D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2B1CA-B12D-4EF0-9741-A15BE3E9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8177F-DD57-43FE-BF08-04A924B6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B8B17-5D79-4314-A42C-85CD6CC7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3B8E6-F70B-44CA-9D24-269D4CC5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77B4A-C73C-4F2F-83B6-F1455B28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02C44-A87D-43DA-8EB6-3A7C575B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E51E-6910-4DB7-98B2-91FE94FA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BD1B1-C601-413A-BBEC-0848D7AE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C9708-412E-4948-9579-15CA93C31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78612-738F-4F3E-95BB-BC5C7231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32432-3D6D-45F7-935D-80790CA7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2A99D-EC09-4300-A2F2-49EF026B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84046-188D-4748-9F46-C978FF8C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5F662-D31F-4A19-A940-4E6C909B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32E9A-6F3B-4ADD-847D-3A957969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D81C8-E9A0-4B2A-B67F-6F309E3A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B51BC-9E10-4372-9D24-67593DA2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B0A-AFE5-426F-81B9-19E78333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4FBA7-E01D-4E97-832C-CD16164F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6AFF8-B135-4E81-9EB3-8FD28DAE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78682-C30E-448F-8295-25FBE54A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4E4FB-E17F-4E92-ADEC-B2FEBB91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2DC4C-CB83-451A-A807-5B4EE0F0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59C2D-D5C2-4628-840A-30F6D0C6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CDB9B-3C4D-4279-AF81-E2A33E92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B1F86-748E-49EF-B10D-EA57C857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1CE59-7B35-441F-8CA9-8499DF6E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C5EBD-7C82-4A2F-A020-F3DF092C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74C3-4ECD-4556-A5D9-5076651A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29576-CE85-4501-AB42-5C940FD9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4B433-945D-47CA-B16C-CC25CBA7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067D5-87FB-413D-A81A-7CC93EE3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193AE-E1A2-40AD-94D9-6E600C8B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C5163-5249-40AF-B984-22E7C18E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7FC3F-2808-4F59-B46E-3C9D9211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DC74D-E15F-4B50-82F9-5EACE5A0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7228C-4449-4A82-BAF4-AB74D857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AC349-969A-447E-8005-ACBF6A7D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09DCC-530F-421C-B0FE-F4C7B5DF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A3E3-C7DA-41CE-9BBD-2B1EE3CB8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D205-23CD-4AFD-9752-42477281AD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15F0-FE16-415E-A532-E0E1D54D39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F478-2008-48BB-816A-3EEAA84D44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14CF-5A47-411D-8B68-741E1747A1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2CEF-E74B-44DC-8CCB-89B8D7445F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9CA4-3FF2-4D4F-82D1-E24D83E2BB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4541-683D-46CE-934A-5901E84F08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1AD7-B7C8-4869-9303-4D596995B7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A4B5-CC41-417E-AB56-0BD9D83038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3BBE-95F9-4B1E-8375-683128D008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C242-4FD5-4D11-BB85-C56C21272A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F42C-6A5A-4F50-BE4A-94E8B0982B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8BBD-75C8-48E5-8380-18A644A5CB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0CA9-5640-4C43-A953-05EDA6B935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97C1-575C-4195-B2DF-989ABE6445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8CA8-DF7B-44DA-AAED-2C8D856D4B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B4FC-DE8F-494B-B343-3910692D75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EB0E-938F-4C77-8BBF-5DE375A8AF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DD8D-E1BA-4102-A545-277A31795A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7B4E-0FDD-4EAD-90F5-8338A966F2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3211-54F5-4D2D-A541-DB85C7C784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2DB4-3B4A-495E-AEFD-B061835B8C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BC90-7197-4C10-8907-C98788A3A4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7BF6-7A90-4195-8198-C5156C17A0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86E9-CD15-48ED-BA02-E79DE1BCDC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1AA2-90E6-4804-A58A-3250D4962B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CED7-62F9-4B44-8D1C-D81727836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34C0-E525-4E53-95E0-BC7F423AD4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4A70-D126-45B3-B585-0BF8DDD4A6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E0CD-24EF-49B5-A61F-6F38ADB093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C911-F3C3-465E-A9F0-00BE9D53BA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971D-6845-46B0-BF8E-9DE44C48BA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5443-04A3-4ED9-9364-DD8C720774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B959-9DC1-4173-8102-722A104A17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1E20-3B74-4B20-8B2B-3AB224009E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5549-CF7C-47FA-A353-1D0496C95D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D469-0D2A-4449-A21F-182B31682A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E1C8-EC0B-44F1-8467-865594C555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4E37-92DF-4F1C-A928-BE1D811F8E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147760" y="2914560"/>
            <a:ext cx="48484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171360" y="981000"/>
            <a:ext cx="8801280" cy="193356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2" descr=""/>
          <p:cNvPicPr/>
          <p:nvPr/>
        </p:nvPicPr>
        <p:blipFill>
          <a:blip r:embed="rId3"/>
          <a:stretch/>
        </p:blipFill>
        <p:spPr>
          <a:xfrm>
            <a:off x="247680" y="3224160"/>
            <a:ext cx="8648640" cy="32004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644364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284328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8172360" y="2622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11600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4643280" y="2622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900000" y="3659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5508720" y="3659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1"/>
          <a:stretch/>
        </p:blipFill>
        <p:spPr>
          <a:xfrm>
            <a:off x="971640" y="5084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2"/>
          <a:stretch/>
        </p:blipFill>
        <p:spPr>
          <a:xfrm>
            <a:off x="5508720" y="50846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755640" y="1906560"/>
            <a:ext cx="6802560" cy="27129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1692360" y="24066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1692360" y="28670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1692360" y="33433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1692360" y="38037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1692360" y="426420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图片 1" descr=""/>
          <p:cNvPicPr/>
          <p:nvPr/>
        </p:nvPicPr>
        <p:blipFill>
          <a:blip r:embed="rId1"/>
          <a:stretch/>
        </p:blipFill>
        <p:spPr>
          <a:xfrm>
            <a:off x="324000" y="2324160"/>
            <a:ext cx="8445240" cy="21240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1042920" y="2762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1042920" y="3213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4"/>
          <a:stretch/>
        </p:blipFill>
        <p:spPr>
          <a:xfrm>
            <a:off x="1057320" y="3645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5"/>
          <a:stretch/>
        </p:blipFill>
        <p:spPr>
          <a:xfrm>
            <a:off x="1042920" y="40766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8:54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